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5DA-08EB-4114-AB31-E97016D2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38180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160" y="4287960"/>
            <a:ext cx="738180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CC43-43FB-48E1-8646-F3DFFA1C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0216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5680" y="1598760"/>
            <a:ext cx="360216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160" y="4287960"/>
            <a:ext cx="360216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5680" y="4287960"/>
            <a:ext cx="360216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E603-9376-410B-9752-1EB72B2C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237672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59040" y="1598760"/>
            <a:ext cx="237672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4920" y="1598760"/>
            <a:ext cx="237672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160" y="4287960"/>
            <a:ext cx="237672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59040" y="4287960"/>
            <a:ext cx="237672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4920" y="4287960"/>
            <a:ext cx="237672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836-B1F7-4A0B-B3B7-8595C216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8810-D34A-4632-AB77-3877C630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160" y="1598760"/>
            <a:ext cx="7381800" cy="51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7FC3-F223-4697-BFEA-F58A53C3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3818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4415-6AEC-4E49-B043-668BBDE4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0216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5680" y="1598760"/>
            <a:ext cx="360216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1A5D-FCF8-441F-99DF-A16B2613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247E-46F9-43F8-98EC-67E62D0B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9240" y="142920"/>
            <a:ext cx="74721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87A7-20DF-4E3F-B993-CC87F783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0216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5680" y="1598760"/>
            <a:ext cx="360216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160" y="4287960"/>
            <a:ext cx="360216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BB39-CBE6-4669-8894-36463A5D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160" y="1598760"/>
            <a:ext cx="7381800" cy="51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4269-00B1-4FE2-AD7C-FCD2AA72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0216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5680" y="1598760"/>
            <a:ext cx="360216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5680" y="4287960"/>
            <a:ext cx="360216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93EE-B2BF-4EF2-AB4A-C67D495C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0216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5680" y="1598760"/>
            <a:ext cx="360216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160" y="4287960"/>
            <a:ext cx="738180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8766-515D-4759-B3BA-ECC1A6CD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38180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160" y="4287960"/>
            <a:ext cx="738180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C13F-97DA-4214-9A98-97BD9FC5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0216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5680" y="1598760"/>
            <a:ext cx="360216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160" y="4287960"/>
            <a:ext cx="360216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5680" y="4287960"/>
            <a:ext cx="360216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4902-3DAC-4A81-AC1E-A1648528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237672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59040" y="1598760"/>
            <a:ext cx="237672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4920" y="1598760"/>
            <a:ext cx="237672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160" y="4287960"/>
            <a:ext cx="237672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59040" y="4287960"/>
            <a:ext cx="237672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4920" y="4287960"/>
            <a:ext cx="237672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407E-0F5F-4DDD-AAA4-82D59871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3818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EB9-A54C-43DA-9EA8-E67EDDC6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0216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5680" y="1598760"/>
            <a:ext cx="360216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65F-15BD-45A2-A5E3-FE00D98C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1C3-C79A-4EB7-8BED-9A9A0167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9240" y="142920"/>
            <a:ext cx="74721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7F4-D0D9-40DB-9213-EECDB2ED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0216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5680" y="1598760"/>
            <a:ext cx="360216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160" y="4287960"/>
            <a:ext cx="360216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5B1D-17FF-41B7-9B9E-46687B40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0216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5680" y="1598760"/>
            <a:ext cx="360216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5680" y="4287960"/>
            <a:ext cx="360216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894-4645-40D6-B31B-928E7752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0216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5680" y="1598760"/>
            <a:ext cx="360216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160" y="4287960"/>
            <a:ext cx="738180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548-1200-47DF-8500-97770478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55160" cy="6865920"/>
            <a:chOff x="0" y="0"/>
            <a:chExt cx="9155160" cy="6865920"/>
          </a:xfrm>
        </p:grpSpPr>
        <p:sp>
          <p:nvSpPr>
            <p:cNvPr id="1" name="Rectangle 2"/>
            <p:cNvSpPr/>
            <p:nvPr/>
          </p:nvSpPr>
          <p:spPr>
            <a:xfrm>
              <a:off x="0" y="6645240"/>
              <a:ext cx="8074080" cy="220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8074080" cy="195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7953480" y="0"/>
              <a:ext cx="1198440" cy="685332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7848720" y="1080"/>
              <a:ext cx="1290600" cy="6304320"/>
              <a:chOff x="7848720" y="1080"/>
              <a:chExt cx="1290600" cy="6304320"/>
            </a:xfrm>
          </p:grpSpPr>
          <p:grpSp>
            <p:nvGrpSpPr>
              <p:cNvPr id="5" name="Group 6"/>
              <p:cNvGrpSpPr/>
              <p:nvPr/>
            </p:nvGrpSpPr>
            <p:grpSpPr>
              <a:xfrm>
                <a:off x="8381880" y="1080"/>
                <a:ext cx="757440" cy="2265840"/>
                <a:chOff x="8381880" y="1080"/>
                <a:chExt cx="757440" cy="2265840"/>
              </a:xfrm>
            </p:grpSpPr>
            <p:grpSp>
              <p:nvGrpSpPr>
                <p:cNvPr id="6" name="Group 7"/>
                <p:cNvGrpSpPr/>
                <p:nvPr/>
              </p:nvGrpSpPr>
              <p:grpSpPr>
                <a:xfrm>
                  <a:off x="8704440" y="1080"/>
                  <a:ext cx="274320" cy="271440"/>
                  <a:chOff x="8704440" y="1080"/>
                  <a:chExt cx="274320" cy="271440"/>
                </a:xfrm>
              </p:grpSpPr>
              <p:grpSp>
                <p:nvGrpSpPr>
                  <p:cNvPr id="7" name="Group 8"/>
                  <p:cNvGrpSpPr/>
                  <p:nvPr/>
                </p:nvGrpSpPr>
                <p:grpSpPr>
                  <a:xfrm>
                    <a:off x="8704440" y="1080"/>
                    <a:ext cx="274320" cy="271440"/>
                    <a:chOff x="8704440" y="1080"/>
                    <a:chExt cx="274320" cy="271440"/>
                  </a:xfrm>
                </p:grpSpPr>
                <p:sp>
                  <p:nvSpPr>
                    <p:cNvPr id="8" name="Freeform 9"/>
                    <p:cNvSpPr/>
                    <p:nvPr/>
                  </p:nvSpPr>
                  <p:spPr>
                    <a:xfrm rot="16200000">
                      <a:off x="8742960" y="-37440"/>
                      <a:ext cx="196920" cy="27432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0"/>
                    <p:cNvSpPr/>
                    <p:nvPr/>
                  </p:nvSpPr>
                  <p:spPr>
                    <a:xfrm rot="16200000">
                      <a:off x="8752320" y="93960"/>
                      <a:ext cx="136440" cy="22032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1"/>
                  <p:cNvSpPr/>
                  <p:nvPr/>
                </p:nvSpPr>
                <p:spPr>
                  <a:xfrm rot="16200000">
                    <a:off x="8824680" y="133200"/>
                    <a:ext cx="22320" cy="219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 rot="16200000">
                    <a:off x="8752680" y="77040"/>
                    <a:ext cx="38160" cy="525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 rot="16200000">
                    <a:off x="8828640" y="63720"/>
                    <a:ext cx="58680" cy="316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 rot="16200000">
                    <a:off x="8893800" y="114480"/>
                    <a:ext cx="19080" cy="554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 rot="16200000">
                    <a:off x="8823960" y="192240"/>
                    <a:ext cx="58680" cy="223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 rot="16200000">
                    <a:off x="8768520" y="167400"/>
                    <a:ext cx="33120" cy="381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052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052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5"/>
              <p:cNvGrpSpPr/>
              <p:nvPr/>
            </p:nvGrpSpPr>
            <p:grpSpPr>
              <a:xfrm>
                <a:off x="7848720" y="1600200"/>
                <a:ext cx="823680" cy="4705200"/>
                <a:chOff x="7848720" y="1600200"/>
                <a:chExt cx="823680" cy="4705200"/>
              </a:xfrm>
            </p:grpSpPr>
            <p:pic>
              <p:nvPicPr>
                <p:cNvPr id="25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052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052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052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052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052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052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5"/>
            <p:cNvSpPr/>
            <p:nvPr/>
          </p:nvSpPr>
          <p:spPr>
            <a:xfrm>
              <a:off x="7953480" y="4908600"/>
              <a:ext cx="1185840" cy="19350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7939080" y="4857840"/>
              <a:ext cx="1214280" cy="1995480"/>
            </a:xfrm>
            <a:prstGeom prst="pie">
              <a:avLst/>
            </a:pr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7"/>
            <p:cNvSpPr/>
            <p:nvPr/>
          </p:nvSpPr>
          <p:spPr>
            <a:xfrm>
              <a:off x="7927920" y="2817720"/>
              <a:ext cx="1227240" cy="4032360"/>
            </a:xfrm>
            <a:prstGeom prst="pie">
              <a:avLst/>
            </a:prstGeom>
            <a:gradFill rotWithShape="0">
              <a:gsLst>
                <a:gs pos="0">
                  <a:srgbClr val="79af7d"/>
                </a:gs>
                <a:gs pos="50000">
                  <a:srgbClr val="375039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8"/>
            <p:cNvSpPr/>
            <p:nvPr/>
          </p:nvSpPr>
          <p:spPr>
            <a:xfrm>
              <a:off x="8010360" y="3538440"/>
              <a:ext cx="974880" cy="217980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49"/>
            <p:cNvSpPr/>
            <p:nvPr/>
          </p:nvSpPr>
          <p:spPr>
            <a:xfrm>
              <a:off x="8244000" y="426960"/>
              <a:ext cx="909360" cy="50436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0"/>
            <p:cNvSpPr/>
            <p:nvPr/>
          </p:nvSpPr>
          <p:spPr>
            <a:xfrm>
              <a:off x="8250120" y="262080"/>
              <a:ext cx="905040" cy="3066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1"/>
            <p:cNvSpPr/>
            <p:nvPr/>
          </p:nvSpPr>
          <p:spPr>
            <a:xfrm>
              <a:off x="7943760" y="0"/>
              <a:ext cx="571680" cy="33480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2"/>
            <p:cNvSpPr/>
            <p:nvPr/>
          </p:nvSpPr>
          <p:spPr>
            <a:xfrm>
              <a:off x="7943760" y="1440"/>
              <a:ext cx="295200" cy="3348360"/>
            </a:xfrm>
            <a:prstGeom prst="pie">
              <a:avLst/>
            </a:pr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3"/>
            <p:cNvSpPr/>
            <p:nvPr/>
          </p:nvSpPr>
          <p:spPr>
            <a:xfrm>
              <a:off x="7866000" y="1440"/>
              <a:ext cx="84240" cy="6853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4"/>
            <p:cNvSpPr/>
            <p:nvPr/>
          </p:nvSpPr>
          <p:spPr>
            <a:xfrm>
              <a:off x="7958160" y="6229440"/>
              <a:ext cx="1160280" cy="614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5"/>
            <p:cNvSpPr/>
            <p:nvPr/>
          </p:nvSpPr>
          <p:spPr>
            <a:xfrm rot="5400000">
              <a:off x="4330080" y="3316320"/>
              <a:ext cx="6853320" cy="220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9240" y="142920"/>
            <a:ext cx="7472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160" y="1598760"/>
            <a:ext cx="73818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320" y="6241680"/>
            <a:ext cx="17780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160"/>
            <a:ext cx="34509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7280" y="6248160"/>
            <a:ext cx="17510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3B4B50-E0B5-4A02-92D9-4F345F6A1863}" type="slidenum">
              <a:rPr b="0" lang="ru-RU" sz="18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0" y="0"/>
            <a:ext cx="9155160" cy="6865920"/>
            <a:chOff x="0" y="0"/>
            <a:chExt cx="9155160" cy="6865920"/>
          </a:xfrm>
        </p:grpSpPr>
        <p:sp>
          <p:nvSpPr>
            <p:cNvPr id="97" name="Rectangle 2"/>
            <p:cNvSpPr/>
            <p:nvPr/>
          </p:nvSpPr>
          <p:spPr>
            <a:xfrm>
              <a:off x="0" y="6645240"/>
              <a:ext cx="8074080" cy="220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3"/>
            <p:cNvSpPr/>
            <p:nvPr/>
          </p:nvSpPr>
          <p:spPr>
            <a:xfrm>
              <a:off x="0" y="0"/>
              <a:ext cx="8074080" cy="195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4"/>
            <p:cNvSpPr/>
            <p:nvPr/>
          </p:nvSpPr>
          <p:spPr>
            <a:xfrm>
              <a:off x="7953480" y="0"/>
              <a:ext cx="1198440" cy="685332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5"/>
            <p:cNvGrpSpPr/>
            <p:nvPr/>
          </p:nvGrpSpPr>
          <p:grpSpPr>
            <a:xfrm>
              <a:off x="7848720" y="1080"/>
              <a:ext cx="1290600" cy="6304320"/>
              <a:chOff x="7848720" y="1080"/>
              <a:chExt cx="1290600" cy="6304320"/>
            </a:xfrm>
          </p:grpSpPr>
          <p:grpSp>
            <p:nvGrpSpPr>
              <p:cNvPr id="101" name="Group 6"/>
              <p:cNvGrpSpPr/>
              <p:nvPr/>
            </p:nvGrpSpPr>
            <p:grpSpPr>
              <a:xfrm>
                <a:off x="8381880" y="1080"/>
                <a:ext cx="757440" cy="2265840"/>
                <a:chOff x="8381880" y="1080"/>
                <a:chExt cx="757440" cy="2265840"/>
              </a:xfrm>
            </p:grpSpPr>
            <p:grpSp>
              <p:nvGrpSpPr>
                <p:cNvPr id="102" name="Group 7"/>
                <p:cNvGrpSpPr/>
                <p:nvPr/>
              </p:nvGrpSpPr>
              <p:grpSpPr>
                <a:xfrm>
                  <a:off x="8704440" y="1080"/>
                  <a:ext cx="274320" cy="271440"/>
                  <a:chOff x="8704440" y="1080"/>
                  <a:chExt cx="274320" cy="271440"/>
                </a:xfrm>
              </p:grpSpPr>
              <p:grpSp>
                <p:nvGrpSpPr>
                  <p:cNvPr id="103" name="Group 8"/>
                  <p:cNvGrpSpPr/>
                  <p:nvPr/>
                </p:nvGrpSpPr>
                <p:grpSpPr>
                  <a:xfrm>
                    <a:off x="8704440" y="1080"/>
                    <a:ext cx="274320" cy="271440"/>
                    <a:chOff x="8704440" y="1080"/>
                    <a:chExt cx="274320" cy="271440"/>
                  </a:xfrm>
                </p:grpSpPr>
                <p:sp>
                  <p:nvSpPr>
                    <p:cNvPr id="104" name="Freeform 9"/>
                    <p:cNvSpPr/>
                    <p:nvPr/>
                  </p:nvSpPr>
                  <p:spPr>
                    <a:xfrm rot="16200000">
                      <a:off x="8742960" y="-37440"/>
                      <a:ext cx="196920" cy="27432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0"/>
                    <p:cNvSpPr/>
                    <p:nvPr/>
                  </p:nvSpPr>
                  <p:spPr>
                    <a:xfrm rot="16200000">
                      <a:off x="8752320" y="93960"/>
                      <a:ext cx="136440" cy="22032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1"/>
                  <p:cNvSpPr/>
                  <p:nvPr/>
                </p:nvSpPr>
                <p:spPr>
                  <a:xfrm rot="16200000">
                    <a:off x="8824680" y="133200"/>
                    <a:ext cx="22320" cy="219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2"/>
                  <p:cNvSpPr/>
                  <p:nvPr/>
                </p:nvSpPr>
                <p:spPr>
                  <a:xfrm rot="16200000">
                    <a:off x="8752680" y="77040"/>
                    <a:ext cx="38160" cy="525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3"/>
                  <p:cNvSpPr/>
                  <p:nvPr/>
                </p:nvSpPr>
                <p:spPr>
                  <a:xfrm rot="16200000">
                    <a:off x="8828640" y="63720"/>
                    <a:ext cx="58680" cy="316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4"/>
                  <p:cNvSpPr/>
                  <p:nvPr/>
                </p:nvSpPr>
                <p:spPr>
                  <a:xfrm rot="16200000">
                    <a:off x="8893800" y="114480"/>
                    <a:ext cx="19080" cy="554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5"/>
                  <p:cNvSpPr/>
                  <p:nvPr/>
                </p:nvSpPr>
                <p:spPr>
                  <a:xfrm rot="16200000">
                    <a:off x="8823960" y="192240"/>
                    <a:ext cx="58680" cy="223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6"/>
                  <p:cNvSpPr/>
                  <p:nvPr/>
                </p:nvSpPr>
                <p:spPr>
                  <a:xfrm rot="16200000">
                    <a:off x="8768520" y="167400"/>
                    <a:ext cx="33120" cy="381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052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052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5"/>
              <p:cNvGrpSpPr/>
              <p:nvPr/>
            </p:nvGrpSpPr>
            <p:grpSpPr>
              <a:xfrm>
                <a:off x="7848720" y="1600200"/>
                <a:ext cx="823680" cy="4705200"/>
                <a:chOff x="7848720" y="1600200"/>
                <a:chExt cx="823680" cy="4705200"/>
              </a:xfrm>
            </p:grpSpPr>
            <p:pic>
              <p:nvPicPr>
                <p:cNvPr id="121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052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052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052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052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052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052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052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5"/>
            <p:cNvSpPr/>
            <p:nvPr/>
          </p:nvSpPr>
          <p:spPr>
            <a:xfrm>
              <a:off x="7953480" y="4908600"/>
              <a:ext cx="1185840" cy="19350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6"/>
            <p:cNvSpPr/>
            <p:nvPr/>
          </p:nvSpPr>
          <p:spPr>
            <a:xfrm>
              <a:off x="7939080" y="4857840"/>
              <a:ext cx="1214280" cy="1995480"/>
            </a:xfrm>
            <a:prstGeom prst="pie">
              <a:avLst/>
            </a:pr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7"/>
            <p:cNvSpPr/>
            <p:nvPr/>
          </p:nvSpPr>
          <p:spPr>
            <a:xfrm>
              <a:off x="7927920" y="2817720"/>
              <a:ext cx="1227240" cy="4032360"/>
            </a:xfrm>
            <a:prstGeom prst="pie">
              <a:avLst/>
            </a:prstGeom>
            <a:gradFill rotWithShape="0">
              <a:gsLst>
                <a:gs pos="0">
                  <a:srgbClr val="79af7d"/>
                </a:gs>
                <a:gs pos="50000">
                  <a:srgbClr val="375039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8"/>
            <p:cNvSpPr/>
            <p:nvPr/>
          </p:nvSpPr>
          <p:spPr>
            <a:xfrm>
              <a:off x="8010360" y="3538440"/>
              <a:ext cx="974880" cy="217980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9"/>
            <p:cNvSpPr/>
            <p:nvPr/>
          </p:nvSpPr>
          <p:spPr>
            <a:xfrm>
              <a:off x="8244000" y="426960"/>
              <a:ext cx="909360" cy="50436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0"/>
            <p:cNvSpPr/>
            <p:nvPr/>
          </p:nvSpPr>
          <p:spPr>
            <a:xfrm>
              <a:off x="8250120" y="262080"/>
              <a:ext cx="905040" cy="3066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7943760" y="0"/>
              <a:ext cx="571680" cy="33480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2"/>
            <p:cNvSpPr/>
            <p:nvPr/>
          </p:nvSpPr>
          <p:spPr>
            <a:xfrm>
              <a:off x="7943760" y="1440"/>
              <a:ext cx="295200" cy="3348360"/>
            </a:xfrm>
            <a:prstGeom prst="pie">
              <a:avLst/>
            </a:pr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7866000" y="1440"/>
              <a:ext cx="84240" cy="6853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4"/>
            <p:cNvSpPr/>
            <p:nvPr/>
          </p:nvSpPr>
          <p:spPr>
            <a:xfrm>
              <a:off x="7958160" y="6229440"/>
              <a:ext cx="1160280" cy="614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5"/>
            <p:cNvSpPr/>
            <p:nvPr/>
          </p:nvSpPr>
          <p:spPr>
            <a:xfrm rot="5400000">
              <a:off x="4330080" y="3316320"/>
              <a:ext cx="6853320" cy="220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369800"/>
            <a:ext cx="6961320" cy="20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320" y="6241680"/>
            <a:ext cx="17780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160"/>
            <a:ext cx="34509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7280" y="6248160"/>
            <a:ext cx="17510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DCB830-9D78-41BF-B299-0F6D7243AF5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"/>
          <p:cNvGrpSpPr/>
          <p:nvPr/>
        </p:nvGrpSpPr>
        <p:grpSpPr>
          <a:xfrm>
            <a:off x="-144360" y="71280"/>
            <a:ext cx="7988040" cy="6783480"/>
            <a:chOff x="-144360" y="71280"/>
            <a:chExt cx="7988040" cy="6783480"/>
          </a:xfrm>
        </p:grpSpPr>
        <p:pic>
          <p:nvPicPr>
            <p:cNvPr id="192" name="Picture 2" descr=""/>
            <p:cNvPicPr/>
            <p:nvPr/>
          </p:nvPicPr>
          <p:blipFill>
            <a:blip r:embed="rId1"/>
            <a:srcRect l="-1768" t="0" r="0" b="6371"/>
            <a:stretch/>
          </p:blipFill>
          <p:spPr>
            <a:xfrm>
              <a:off x="-144360" y="71280"/>
              <a:ext cx="7988040" cy="678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3"/>
            <p:cNvSpPr/>
            <p:nvPr/>
          </p:nvSpPr>
          <p:spPr>
            <a:xfrm>
              <a:off x="-144360" y="71280"/>
              <a:ext cx="7988040" cy="67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5105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304920" y="685800"/>
            <a:ext cx="6933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мятники села Супсех</a:t>
            </a:r>
            <a:endParaRPr b="0" lang="en-US" sz="1800" spc="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03040"/>
            <a:ext cx="747684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Бюст великому русскому ученому Михаилу Ломоносову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80920" y="1598760"/>
            <a:ext cx="4038840" cy="48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Times New Roman"/>
              </a:rPr>
              <a:t>   </a:t>
            </a:r>
            <a:r>
              <a:rPr b="1" lang="ru-RU" sz="2600" spc="-1" strike="noStrike">
                <a:solidFill>
                  <a:srgbClr val="2f1311"/>
                </a:solidFill>
                <a:latin typeface="Times New Roman"/>
              </a:rPr>
              <a:t>Церемония открытия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f1311"/>
                </a:solidFill>
                <a:latin typeface="Times New Roman"/>
              </a:rPr>
              <a:t>была приурочена к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f1311"/>
                </a:solidFill>
                <a:latin typeface="Times New Roman"/>
              </a:rPr>
              <a:t>300-летию со дня рож-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f1311"/>
                </a:solidFill>
                <a:latin typeface="Times New Roman"/>
              </a:rPr>
              <a:t>дения исследователя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f1311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2f1311"/>
                </a:solidFill>
                <a:latin typeface="Times New Roman"/>
              </a:rPr>
              <a:t>Памятник установлен в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f1311"/>
                </a:solidFill>
                <a:latin typeface="Times New Roman"/>
              </a:rPr>
              <a:t>Супсехе на территории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f1311"/>
                </a:solidFill>
                <a:latin typeface="Times New Roman"/>
              </a:rPr>
              <a:t>школы № 11. Презентация бюста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f1311"/>
                </a:solidFill>
                <a:latin typeface="Times New Roman"/>
              </a:rPr>
              <a:t>состоялось в рамках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f1311"/>
                </a:solidFill>
                <a:latin typeface="Times New Roman"/>
              </a:rPr>
              <a:t>праздничной линейки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f1311"/>
                </a:solidFill>
                <a:latin typeface="Times New Roman"/>
              </a:rPr>
              <a:t>1сентября 2011 года.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клонный крест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388800" y="1598760"/>
            <a:ext cx="3364200" cy="44971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28640" y="1231560"/>
            <a:ext cx="4221000" cy="49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Супсех известен своей достопримечательностью- самым большим поклон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ным крестом на Кубани.         Высота памятника сос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тавляет 18.7 метров и ви-ден он практически из Анапы. Установлен как символ примирения и согласия между народами Кавказа.  Установка креста приурочена к 60 - летию победы в Великой Отечественной войн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арящий орёл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63520" y="1600200"/>
            <a:ext cx="3616200" cy="44197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267080" y="1598760"/>
            <a:ext cx="3200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тела  с раскрывшим крылья орлом расположилась на Семисамском хребте, который начинается именно здесь, в Анапе, и тянется более чем на 1100 километров до самого Каспийского мор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амятник труженикам тыла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571680" y="1598760"/>
            <a:ext cx="3000240" cy="44971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733920" y="1828440"/>
            <a:ext cx="3504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анапском поселке  Супсех был открыт памятный знак "Труженикам тыла в годы войны 1941-1945 годы"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Его установили 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69-й годовщине освобождения Анапы от немецко-фашистских захватчик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03040"/>
            <a:ext cx="747684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Аннотационная доска памяти Степана Жолоба.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82680" y="1598760"/>
            <a:ext cx="3378240" cy="44971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9520" y="1598760"/>
            <a:ext cx="3429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Имя героя носит улица в селе Супсех Анапского района Краснодарского края, на одном из домов установлена аннотационная доск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амятник Степану Жолобу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530280" y="1598760"/>
            <a:ext cx="3081240" cy="4497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52320" y="1598760"/>
            <a:ext cx="4297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есстрашный офицер-политработник организо-вал оборону и в течение четырёх дней во главе взвода отбивал атаки противника. Выполнив боевую задачу, младший политрук Жолоб С.М. вывел бойцов из окру-жения. Памятник герою установлен на Старом кладбище в городе Анапа Краснодарского кра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</a:t>
            </a: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Братская могила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cap="sq" w="9360">
            <a:solidFill>
              <a:srgbClr val="f7d4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Братская могила советских воинов, погибших в боях с фашистскими захватчиками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1942-1943 годы.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209520" y="1600200"/>
            <a:ext cx="3753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142560"/>
            <a:ext cx="7248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Мемориал </a:t>
            </a:r>
            <a:br>
              <a:rPr sz="4000"/>
            </a:b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  воинам - освободителям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263520" y="1598760"/>
            <a:ext cx="7386480" cy="54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Мемориальный комплекс: обелиск воинам-землякам, погибшим в годы Великой Отечественной вой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61722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Times New Roman"/>
              </a:rPr>
              <a:t>Дом, где жил заслуженный артист РСФСР Д.Д. Головин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79720" y="1279440"/>
            <a:ext cx="3662640" cy="52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В юношеские годы пел в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церковных хорах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Сценическую деятельность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начал в театре оперетты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Учился в Московской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консерватории. Был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солистом Большого театр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Совершенствовался в Ита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лии, пел в театрах Монте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Карло, Милана и Париж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Выступал как концертный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певец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бладал голосом необычай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ной мощи, полноты и насы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щен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С 1956 года жил в поселке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Супсех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647640" y="1782720"/>
            <a:ext cx="2865600" cy="383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_Astra</cp:lastModifiedBy>
  <dcterms:modified xsi:type="dcterms:W3CDTF">2014-12-10T08:50:5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